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2C7-9C60-4F85-9DBD-5B007FE3A7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C50-AB9B-40E1-A28D-2F45C4E51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35FE-407A-4F70-B418-1007DC049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A5C8-39FC-4724-9E46-4994521AD5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25EC-F688-4B64-B58E-72093B49E8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F164-9B79-4170-B959-DC7826BDB2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D0F6-CE96-446B-B5C5-C7BDEC379B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C8C0-35B5-4F3B-92E3-05E9EF97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859F-2DB5-4EE1-8479-E37EC3A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A5CB-884A-4EF2-BEC1-4A63615E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A0BB-662D-42E2-8732-208E80FE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643B-C4FF-49B3-A5DA-CB475EB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C402-853E-4D8C-AA7D-904AB152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BCDC-522F-4CE1-B0FF-4670F97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5FDA-6A16-4473-BB88-570EA56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D8DE-E056-4688-B002-DF21430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95D6-2420-4A74-A884-91DD864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41E1-0BBC-4836-AA88-5C5F95E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CFF5-2469-4523-8DA8-3FB8643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479-BC99-474A-8321-3B1BD11096F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CD25-33B3-455D-9100-CD2E83C38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080" y="1511280"/>
            <a:ext cx="853452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ccbf9"/>
                </a:solidFill>
                <a:latin typeface="Arial"/>
              </a:rPr>
              <a:t>From Insight to Impact: </a:t>
            </a:r>
            <a:br>
              <a:rPr sz="4800"/>
            </a:br>
            <a:r>
              <a:rPr b="0" i="1" lang="en-US" sz="3000" spc="-1" strike="noStrike">
                <a:solidFill>
                  <a:srgbClr val="accbf9"/>
                </a:solidFill>
                <a:latin typeface="Arial"/>
              </a:rPr>
              <a:t>Maximizing the Value of Data Through Evaluation</a:t>
            </a:r>
            <a:endParaRPr b="0" lang="en-US" sz="3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81960" y="459756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M. Doucette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valuators’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TEI Logo (18NOV09).png"/>
          <p:cNvPicPr/>
          <p:nvPr/>
        </p:nvPicPr>
        <p:blipFill>
          <a:blip r:embed="rId1"/>
          <a:stretch/>
        </p:blipFill>
        <p:spPr>
          <a:xfrm>
            <a:off x="2133720" y="4984920"/>
            <a:ext cx="582480" cy="56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542600" y="6237360"/>
            <a:ext cx="618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deration of Earth Science Information Partners – Winter 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nuary 2011, Washington 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281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omplexity Approach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6600" y="1090440"/>
            <a:ext cx="8153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, dynamic, adaptive, ev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can be better understood through dynamic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s: individual action change the context for other individ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s include: partners, data/informatics collaborations, educational outreach collaborations, monthly telecom participant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ity and Individuality: Individuals have unique and shared mental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onnections between individuals an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s embedded withi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member within organization, within partnerships and collaborations, within political, economic and poli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y of the interaction of individuals and syst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olving behavior – adaptation to novelty and the un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ability is not expected at the detai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r-focused predictability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is natural and not im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Weather Cartoon.jpg"/>
          <p:cNvPicPr/>
          <p:nvPr/>
        </p:nvPicPr>
        <p:blipFill>
          <a:blip r:embed="rId1"/>
          <a:stretch/>
        </p:blipFill>
        <p:spPr>
          <a:xfrm>
            <a:off x="314280" y="193680"/>
            <a:ext cx="4989600" cy="6281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5462640" y="1212840"/>
            <a:ext cx="328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new knowledge becomes available, the criteria for credible evidence also 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s are constantly revising and rearranging their building blocks as they gain experience and new understanding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01804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ere to Start?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386532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3800" y="34272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Managing Data Complexity: Characterizing Programs/Initiatives 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3440" y="1577520"/>
            <a:ext cx="80629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lausi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believe the logic of the program/intervention is correct --  if we do these things, we will get the results we want and exp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easi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human, political and economic resources are seen as sufficient to implement the action strategies in the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asur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believe there are credible ways to discover whether the results are as predi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285120">
              <a:spcBef>
                <a:spcPts val="64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aningful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takeholders see the outcomes as important and the magnitude of change in these outcomes being pursued as worth the eff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968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Identifying a Theory of Chang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1914480"/>
            <a:ext cx="73152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eory of change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 causal pathway from implementation of the intervention or program to the intended outcomes by specifying what is needed for outcomes to be achie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outlines underlying assumptions which can be tested and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mechanisms through which change takes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thinking on what you are doing to what you want to ach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540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Steps in Building a </a:t>
            </a:r>
            <a:r>
              <a:rPr b="0" i="1" lang="en-US" sz="3600" spc="-1" strike="noStrike">
                <a:solidFill>
                  <a:srgbClr val="accbf9"/>
                </a:solidFill>
                <a:latin typeface="Arial"/>
              </a:rPr>
              <a:t>Theory of Change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5200" y="1771560"/>
            <a:ext cx="80820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66200" indent="-425160">
              <a:spcBef>
                <a:spcPts val="700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long-term goals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hind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onnections between long term, intermediate and early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 that the important preconditions for success have been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fication that the links/mechanisms between program activities and the outcomes are as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425160">
              <a:spcBef>
                <a:spcPts val="601"/>
              </a:spcBef>
              <a:buClr>
                <a:srgbClr val="accb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ontextual (political, economic, etc.) and environmental factors that will support or hinder prog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77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Steps in Building a </a:t>
            </a:r>
            <a:r>
              <a:rPr b="0" i="1" lang="en-US" sz="3600" spc="-1" strike="noStrike">
                <a:solidFill>
                  <a:srgbClr val="accbf9"/>
                </a:solidFill>
                <a:latin typeface="Arial"/>
              </a:rPr>
              <a:t>Theory of Change (cont.)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893600"/>
            <a:ext cx="73152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wards mapping and connect the preconditions or requirements necessary to achieve that go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ing the interventions that your initiative will perform to create your desired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ing indicators to measure your outcomes to assess the performance of your initi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ing a narrative to explain the logic of your initi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1320" indent="-438840">
              <a:spcBef>
                <a:spcPts val="649"/>
              </a:spcBef>
              <a:buClr>
                <a:srgbClr val="accbf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968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Using the Theory of Change Framework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2547720"/>
            <a:ext cx="73152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change is a framework against which the success and obstacles of your initiative will be evalu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, justification, and contextual conditions believed to af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1400" indent="-178560"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/initiative success, information about how assumptions change, expand, or prove correct can be evaluated against the initial theory of change and modification and adaptations made throughout the program/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01804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Evaluation Approaches &amp; Considerations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386532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176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Approaches to Evaluation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14400" y="1311120"/>
            <a:ext cx="73152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s assess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termines the magnitude of need and what might work to meet the n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aluability assessme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n evaluation is feasible and how stakeholders can help shape its useful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ceptualization-focused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s define the program or technology, the target population, and the possible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lementation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nitors the fidelity of the program or technology deliv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ss evalua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s the process of delivering the program or technology, including alternative delivery proced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39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cbf9"/>
                </a:solidFill>
                <a:latin typeface="Arial"/>
              </a:rPr>
              <a:t>Objectives</a:t>
            </a:r>
            <a:endParaRPr b="0" lang="en-US" sz="48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55" name="Diagram 4" descr=""/>
          <p:cNvPicPr/>
          <p:nvPr/>
        </p:nvPicPr>
        <p:blipFill>
          <a:blip r:embed="rId1"/>
          <a:stretch/>
        </p:blipFill>
        <p:spPr>
          <a:xfrm>
            <a:off x="1090440" y="1616040"/>
            <a:ext cx="74138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35080"/>
            <a:ext cx="73152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Approaches to Evaluation </a:t>
            </a:r>
            <a:r>
              <a:rPr b="0" lang="en-US" sz="3100" spc="-1" strike="noStrike">
                <a:solidFill>
                  <a:srgbClr val="accbf9"/>
                </a:solidFill>
                <a:latin typeface="Arial"/>
              </a:rPr>
              <a:t>(cont.)</a:t>
            </a:r>
            <a:endParaRPr b="0" lang="en-US" sz="3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5920" y="1149120"/>
            <a:ext cx="769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velopmental evalu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on what is being developed through innovative eng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come evaluation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 whether the program or technology caused demonstrable effects on specifically defined target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act evalu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broader and assesses the overall or net effects -- intended or unintended -- of the program or technology as a wh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-effectiveness and cost-benefit analys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questions of efficiency by standardizing outcomes in terms of their dollar costs and val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a-analys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s the outcome estimates from multiple studies to arrive at an overall or summary judgment on an evaluation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3906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Balancing Data &amp; Method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171" name="Picture 3" descr="Calculator_Keys.jpg"/>
          <p:cNvPicPr/>
          <p:nvPr/>
        </p:nvPicPr>
        <p:blipFill>
          <a:blip r:embed="rId1"/>
          <a:stretch/>
        </p:blipFill>
        <p:spPr>
          <a:xfrm>
            <a:off x="7315200" y="1347840"/>
            <a:ext cx="1822320" cy="2449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1105920" y="2940120"/>
            <a:ext cx="304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ory Analy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nographic investig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iews, Focus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assess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682520" y="31449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Surve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103400" y="4805280"/>
            <a:ext cx="25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ended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963680" y="4984920"/>
            <a:ext cx="26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/Questionna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pidemiological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Straight Connector 9" descr=""/>
          <p:cNvPicPr/>
          <p:nvPr/>
        </p:nvPicPr>
        <p:blipFill>
          <a:blip r:embed="rId2"/>
          <a:stretch/>
        </p:blipFill>
        <p:spPr>
          <a:xfrm>
            <a:off x="512640" y="4743360"/>
            <a:ext cx="7425000" cy="193680"/>
          </a:xfrm>
          <a:prstGeom prst="rect">
            <a:avLst/>
          </a:prstGeom>
          <a:ln w="0">
            <a:noFill/>
          </a:ln>
        </p:spPr>
      </p:pic>
      <p:pic>
        <p:nvPicPr>
          <p:cNvPr id="177" name="Straight Connector 11" descr=""/>
          <p:cNvPicPr/>
          <p:nvPr/>
        </p:nvPicPr>
        <p:blipFill>
          <a:blip r:embed="rId3"/>
          <a:stretch/>
        </p:blipFill>
        <p:spPr>
          <a:xfrm>
            <a:off x="4479840" y="2548080"/>
            <a:ext cx="189000" cy="39924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2"/>
          <p:cNvSpPr/>
          <p:nvPr/>
        </p:nvSpPr>
        <p:spPr>
          <a:xfrm>
            <a:off x="37440" y="4767120"/>
            <a:ext cx="86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29dd1"/>
                </a:solidFill>
                <a:latin typeface="Times New Roman"/>
                <a:ea typeface="Times New Roman"/>
              </a:rPr>
              <a:t>Qualitative                                                                                                            Quantit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 rot="16200000">
            <a:off x="2084040" y="429840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29dd1"/>
                </a:solidFill>
                <a:latin typeface="Times New Roman"/>
                <a:ea typeface="Times New Roman"/>
              </a:rPr>
              <a:t>Less Contextual                                Contex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6882120" y="6480000"/>
            <a:ext cx="21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dapted from Hentschel (1999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23360"/>
            <a:ext cx="7315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Counterfactual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14400" y="1399680"/>
            <a:ext cx="73152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factual typically indicates a comparison group that has not been exposed or benefitted from a program, intervention or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issues results from denying the inclusion of some groups for the sake of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often prevent universal exposure and choices often have to be made regarding the siz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rimental/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90520">
              <a:lnSpc>
                <a:spcPct val="80000"/>
              </a:lnSpc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sometimes use lagged implementation and waiting lists and use these groups as compari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90520">
              <a:lnSpc>
                <a:spcPct val="80000"/>
              </a:lnSpc>
              <a:spcBef>
                <a:spcPts val="499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tility of waiting list groups, etc., is questioned as other events can account or contribute to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290520">
              <a:lnSpc>
                <a:spcPct val="80000"/>
              </a:lnSpc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 such as strong comparative effectiveness designs can be used to evaluate program/intervention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en to Look for Impact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184" name="Content Placeholder 3" descr="eyeglasses.jpg"/>
          <p:cNvPicPr/>
          <p:nvPr/>
        </p:nvPicPr>
        <p:blipFill>
          <a:blip r:embed="rId1"/>
          <a:srcRect l="0" t="13546" r="0" b="13546"/>
          <a:stretch/>
        </p:blipFill>
        <p:spPr>
          <a:xfrm>
            <a:off x="5969160" y="4821120"/>
            <a:ext cx="2846160" cy="1376640"/>
          </a:xfrm>
          <a:prstGeom prst="rect">
            <a:avLst/>
          </a:prstGeom>
          <a:ln w="0">
            <a:noFill/>
          </a:ln>
        </p:spPr>
      </p:pic>
      <p:sp>
        <p:nvSpPr>
          <p:cNvPr id="185" name="Content Placeholder 2"/>
          <p:cNvSpPr/>
          <p:nvPr/>
        </p:nvSpPr>
        <p:spPr>
          <a:xfrm>
            <a:off x="784080" y="2320920"/>
            <a:ext cx="5599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me to expec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intermediat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29844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al/near-real-time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ccbf9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54560" y="3494160"/>
            <a:ext cx="414612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M. Doucette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valuators’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22 F Street NW, Suite 407-A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ington, DC 20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ail: doucette@gwu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TEI Logo (18NOV09).png"/>
          <p:cNvPicPr/>
          <p:nvPr/>
        </p:nvPicPr>
        <p:blipFill>
          <a:blip r:embed="rId1"/>
          <a:stretch/>
        </p:blipFill>
        <p:spPr>
          <a:xfrm>
            <a:off x="2265480" y="3908520"/>
            <a:ext cx="582480" cy="56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48920"/>
            <a:ext cx="73152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Why Evaluate?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1120" y="1305000"/>
            <a:ext cx="819468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redible and useful information (eviden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verify that the program/initiative is doing what was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ssess program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over challenges early to optimize outcome and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ssist in prioritizing resources by identifying program components that are most effective or cr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veal which functions/activities to continue and which ones to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nticipate improvements needed to sustain and/or increase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-17676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continuous quality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92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To Know Whether ESIP Federation Goals Are Met</a:t>
            </a:r>
            <a:endParaRPr b="0" lang="en-US" sz="36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063880"/>
            <a:ext cx="7315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rease the use and va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arth science data and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 as a facilitating, coordinating and advisory community-led organization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 the use of Earth science data and information produ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our members and the communities they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ngthen the t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Observations, Research and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 techniques to articulate and measure the socioeconomic value and benef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Earth science data, information and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 6" descr=""/>
          <p:cNvPicPr/>
          <p:nvPr/>
        </p:nvPicPr>
        <p:blipFill>
          <a:blip r:embed="rId1"/>
          <a:stretch/>
        </p:blipFill>
        <p:spPr>
          <a:xfrm>
            <a:off x="-1743120" y="-55440"/>
            <a:ext cx="7869240" cy="6986520"/>
          </a:xfrm>
          <a:prstGeom prst="rect">
            <a:avLst/>
          </a:prstGeom>
          <a:ln w="0">
            <a:noFill/>
          </a:ln>
        </p:spPr>
      </p:pic>
      <p:pic>
        <p:nvPicPr>
          <p:cNvPr id="61" name="Diagram 7" descr=""/>
          <p:cNvPicPr/>
          <p:nvPr/>
        </p:nvPicPr>
        <p:blipFill>
          <a:blip r:embed="rId2"/>
          <a:stretch/>
        </p:blipFill>
        <p:spPr>
          <a:xfrm>
            <a:off x="2084400" y="1749600"/>
            <a:ext cx="7248600" cy="6235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3160" y="202680"/>
            <a:ext cx="7759800" cy="7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ESIP Evaluation Landscape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pic>
        <p:nvPicPr>
          <p:cNvPr id="63" name="Rectangle 8" descr=""/>
          <p:cNvPicPr/>
          <p:nvPr/>
        </p:nvPicPr>
        <p:blipFill>
          <a:blip r:embed="rId3"/>
          <a:stretch/>
        </p:blipFill>
        <p:spPr>
          <a:xfrm>
            <a:off x="42840" y="6315120"/>
            <a:ext cx="177336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9" descr=""/>
          <p:cNvPicPr/>
          <p:nvPr/>
        </p:nvPicPr>
        <p:blipFill>
          <a:blip r:embed="rId4"/>
          <a:stretch/>
        </p:blipFill>
        <p:spPr>
          <a:xfrm>
            <a:off x="7059600" y="3554280"/>
            <a:ext cx="1871640" cy="46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 rot="282000">
            <a:off x="4367520" y="3133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Narrow"/>
              </a:rPr>
              <a:t>Biod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Oval 11"/>
          <p:cNvGrpSpPr/>
          <p:nvPr/>
        </p:nvGrpSpPr>
        <p:grpSpPr>
          <a:xfrm>
            <a:off x="3968640" y="3243240"/>
            <a:ext cx="249480" cy="243000"/>
            <a:chOff x="3968640" y="3243240"/>
            <a:chExt cx="249480" cy="243000"/>
          </a:xfrm>
        </p:grpSpPr>
        <p:pic>
          <p:nvPicPr>
            <p:cNvPr id="67" name="Oval 11" descr=""/>
            <p:cNvPicPr/>
            <p:nvPr/>
          </p:nvPicPr>
          <p:blipFill>
            <a:blip r:embed="rId5"/>
            <a:stretch/>
          </p:blipFill>
          <p:spPr>
            <a:xfrm>
              <a:off x="3968640" y="3243240"/>
              <a:ext cx="2494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054320" y="3292560"/>
              <a:ext cx="810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82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cbf9"/>
                </a:solidFill>
                <a:latin typeface="Arial"/>
              </a:rPr>
              <a:t>From Simple to Complex</a:t>
            </a:r>
            <a:endParaRPr b="0" lang="en-US" sz="44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28600" y="3541680"/>
            <a:ext cx="198108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Connections are essential; Individual representatives less criti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590920" y="3541680"/>
            <a:ext cx="182880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Simple rules lead to complex, adaptive, creative respon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800600" y="3541680"/>
            <a:ext cx="1981080" cy="94644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Individuals have creative opportunity of responding within 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28600" y="2679840"/>
            <a:ext cx="198108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Individuals and connections are equally impor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590920" y="2676600"/>
            <a:ext cx="182880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Algorithms lead to predictable respon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4800600" y="2679840"/>
            <a:ext cx="1981080" cy="73332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Response is determined by the r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724440" y="3618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701040" y="267480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590920" y="1917720"/>
            <a:ext cx="1828800" cy="30708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Easily know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800600" y="1865160"/>
            <a:ext cx="1981080" cy="520200"/>
          </a:xfrm>
          <a:prstGeom prst="rect">
            <a:avLst/>
          </a:prstGeom>
          <a:solidFill>
            <a:srgbClr val="c0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Rules are given -- ac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6730560" y="18414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5" descr="Car_Key_Blank.jpg"/>
          <p:cNvPicPr/>
          <p:nvPr/>
        </p:nvPicPr>
        <p:blipFill>
          <a:blip r:embed="rId1"/>
          <a:srcRect l="6278" t="-210" r="13291" b="325"/>
          <a:stretch/>
        </p:blipFill>
        <p:spPr>
          <a:xfrm rot="16200000">
            <a:off x="721440" y="4658400"/>
            <a:ext cx="113328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ybrid_car.jpg"/>
          <p:cNvPicPr/>
          <p:nvPr/>
        </p:nvPicPr>
        <p:blipFill>
          <a:blip r:embed="rId2"/>
          <a:stretch/>
        </p:blipFill>
        <p:spPr>
          <a:xfrm>
            <a:off x="2708280" y="4719600"/>
            <a:ext cx="1576440" cy="121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traffic_pattern.jpg"/>
          <p:cNvPicPr/>
          <p:nvPr/>
        </p:nvPicPr>
        <p:blipFill>
          <a:blip r:embed="rId3"/>
          <a:stretch/>
        </p:blipFill>
        <p:spPr>
          <a:xfrm rot="5400000">
            <a:off x="5332680" y="4528080"/>
            <a:ext cx="1154160" cy="1536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8"/>
          <p:cNvSpPr/>
          <p:nvPr/>
        </p:nvSpPr>
        <p:spPr>
          <a:xfrm>
            <a:off x="715680" y="5934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2496600" y="5938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5166720" y="5938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6423120" y="6248520"/>
            <a:ext cx="25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t times </a:t>
            </a:r>
            <a:r>
              <a:rPr b="1" lang="en-US" sz="2400" spc="-1" strike="noStrike">
                <a:solidFill>
                  <a:srgbClr val="ffffff"/>
                </a:solidFill>
                <a:latin typeface="Impact"/>
              </a:rPr>
              <a:t>CHA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4419360" y="1828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4419360" y="2676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4419360" y="3581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2209320" y="3581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2209320" y="2676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760" y="968400"/>
            <a:ext cx="825012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cbf9"/>
                </a:solidFill>
                <a:latin typeface="Arial"/>
              </a:rPr>
              <a:t>Complexity:</a:t>
            </a:r>
            <a:br>
              <a:rPr sz="3600"/>
            </a:br>
            <a:r>
              <a:rPr b="0" lang="en-US" sz="2800" spc="-1" strike="noStrike">
                <a:solidFill>
                  <a:srgbClr val="accbf9"/>
                </a:solidFill>
                <a:latin typeface="Arial"/>
              </a:rPr>
              <a:t>Maximizing Earth and Environmental Science Data, Educational and Associated Technology Use</a:t>
            </a:r>
            <a:endParaRPr b="0" lang="en-US" sz="2800" spc="-1" strike="noStrike">
              <a:solidFill>
                <a:srgbClr val="accbf9"/>
              </a:solidFill>
              <a:latin typeface="Arial"/>
            </a:endParaRPr>
          </a:p>
        </p:txBody>
      </p:sp>
      <p:grpSp>
        <p:nvGrpSpPr>
          <p:cNvPr id="94" name="Rounded Rectangle 5"/>
          <p:cNvGrpSpPr/>
          <p:nvPr/>
        </p:nvGrpSpPr>
        <p:grpSpPr>
          <a:xfrm>
            <a:off x="755640" y="2944800"/>
            <a:ext cx="7553160" cy="3005280"/>
            <a:chOff x="755640" y="2944800"/>
            <a:chExt cx="7553160" cy="3005280"/>
          </a:xfrm>
        </p:grpSpPr>
        <p:pic>
          <p:nvPicPr>
            <p:cNvPr id="95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55640" y="2944800"/>
              <a:ext cx="75531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66960" y="3110040"/>
              <a:ext cx="7137360" cy="25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Picture 3" descr="SocialNetworkAnalysis_Graph.gif"/>
          <p:cNvPicPr/>
          <p:nvPr/>
        </p:nvPicPr>
        <p:blipFill>
          <a:blip r:embed="rId2"/>
          <a:stretch/>
        </p:blipFill>
        <p:spPr>
          <a:xfrm>
            <a:off x="5518080" y="3102120"/>
            <a:ext cx="2428920" cy="250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organizational_chart.jpg"/>
          <p:cNvPicPr/>
          <p:nvPr/>
        </p:nvPicPr>
        <p:blipFill>
          <a:blip r:embed="rId3"/>
          <a:stretch/>
        </p:blipFill>
        <p:spPr>
          <a:xfrm>
            <a:off x="1068480" y="3089160"/>
            <a:ext cx="3843360" cy="2519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3280" y="5905440"/>
            <a:ext cx="82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IP is not the sum of its Partnerships, but the product of the Partnership networks and associated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ounded Rectangle 18"/>
          <p:cNvGrpSpPr/>
          <p:nvPr/>
        </p:nvGrpSpPr>
        <p:grpSpPr>
          <a:xfrm>
            <a:off x="5657760" y="1706400"/>
            <a:ext cx="3443400" cy="3372120"/>
            <a:chOff x="5657760" y="1706400"/>
            <a:chExt cx="3443400" cy="3372120"/>
          </a:xfrm>
        </p:grpSpPr>
        <p:pic>
          <p:nvPicPr>
            <p:cNvPr id="101" name="Rounded Rectangle 18" descr=""/>
            <p:cNvPicPr/>
            <p:nvPr/>
          </p:nvPicPr>
          <p:blipFill>
            <a:blip r:embed="rId1"/>
            <a:stretch/>
          </p:blipFill>
          <p:spPr>
            <a:xfrm>
              <a:off x="5657760" y="1706400"/>
              <a:ext cx="3443400" cy="33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88160" y="1887480"/>
              <a:ext cx="298908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Rounded Rectangle 1"/>
          <p:cNvGrpSpPr/>
          <p:nvPr/>
        </p:nvGrpSpPr>
        <p:grpSpPr>
          <a:xfrm>
            <a:off x="6480" y="1706400"/>
            <a:ext cx="5651280" cy="3378240"/>
            <a:chOff x="6480" y="1706400"/>
            <a:chExt cx="5651280" cy="3378240"/>
          </a:xfrm>
        </p:grpSpPr>
        <p:pic>
          <p:nvPicPr>
            <p:cNvPr id="104" name="Rounded Rectangle 1" descr=""/>
            <p:cNvPicPr/>
            <p:nvPr/>
          </p:nvPicPr>
          <p:blipFill>
            <a:blip r:embed="rId2"/>
            <a:stretch/>
          </p:blipFill>
          <p:spPr>
            <a:xfrm>
              <a:off x="6480" y="1706400"/>
              <a:ext cx="565128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39760" y="1892160"/>
              <a:ext cx="519120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d w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Curved Left Arrow 12"/>
          <p:cNvGrpSpPr/>
          <p:nvPr/>
        </p:nvGrpSpPr>
        <p:grpSpPr>
          <a:xfrm>
            <a:off x="4627440" y="1822320"/>
            <a:ext cx="901800" cy="1554120"/>
            <a:chOff x="4627440" y="1822320"/>
            <a:chExt cx="901800" cy="1554120"/>
          </a:xfrm>
        </p:grpSpPr>
        <p:pic>
          <p:nvPicPr>
            <p:cNvPr id="107" name="Curved Left Arrow 12" descr=""/>
            <p:cNvPicPr/>
            <p:nvPr/>
          </p:nvPicPr>
          <p:blipFill>
            <a:blip r:embed="rId3"/>
            <a:stretch/>
          </p:blipFill>
          <p:spPr>
            <a:xfrm>
              <a:off x="4627440" y="1822320"/>
              <a:ext cx="901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0800000">
              <a:off x="4656240" y="1831680"/>
              <a:ext cx="852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ccbf9"/>
                </a:solidFill>
                <a:latin typeface="Arial"/>
              </a:rPr>
              <a:t>Traditional Approach: Linear Systems</a:t>
            </a:r>
            <a:endParaRPr b="0" lang="en-US" sz="4000" spc="-1" strike="noStrike">
              <a:solidFill>
                <a:srgbClr val="accbf9"/>
              </a:solidFill>
              <a:latin typeface="Arial"/>
            </a:endParaRPr>
          </a:p>
        </p:txBody>
      </p:sp>
      <p:grpSp>
        <p:nvGrpSpPr>
          <p:cNvPr id="110" name="Round Diagonal Corner Rectangle 4"/>
          <p:cNvGrpSpPr/>
          <p:nvPr/>
        </p:nvGrpSpPr>
        <p:grpSpPr>
          <a:xfrm>
            <a:off x="274680" y="3017880"/>
            <a:ext cx="1498680" cy="736560"/>
            <a:chOff x="274680" y="3017880"/>
            <a:chExt cx="1498680" cy="736560"/>
          </a:xfrm>
        </p:grpSpPr>
        <p:pic>
          <p:nvPicPr>
            <p:cNvPr id="111" name="Round Diagonal Corner Rectangle 4" descr=""/>
            <p:cNvPicPr/>
            <p:nvPr/>
          </p:nvPicPr>
          <p:blipFill>
            <a:blip r:embed="rId4"/>
            <a:stretch/>
          </p:blipFill>
          <p:spPr>
            <a:xfrm>
              <a:off x="274680" y="3017880"/>
              <a:ext cx="1498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8040" y="3081240"/>
              <a:ext cx="1381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Round Diagonal Corner Rectangle 5"/>
          <p:cNvGrpSpPr/>
          <p:nvPr/>
        </p:nvGrpSpPr>
        <p:grpSpPr>
          <a:xfrm>
            <a:off x="1974960" y="3017880"/>
            <a:ext cx="1573200" cy="736560"/>
            <a:chOff x="1974960" y="3017880"/>
            <a:chExt cx="1573200" cy="736560"/>
          </a:xfrm>
        </p:grpSpPr>
        <p:pic>
          <p:nvPicPr>
            <p:cNvPr id="114" name="Round Diagonal Corner Rectangle 5" descr=""/>
            <p:cNvPicPr/>
            <p:nvPr/>
          </p:nvPicPr>
          <p:blipFill>
            <a:blip r:embed="rId5"/>
            <a:stretch/>
          </p:blipFill>
          <p:spPr>
            <a:xfrm>
              <a:off x="1974960" y="3017880"/>
              <a:ext cx="15732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036880" y="3081240"/>
              <a:ext cx="1457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Round Diagonal Corner Rectangle 6"/>
          <p:cNvGrpSpPr/>
          <p:nvPr/>
        </p:nvGrpSpPr>
        <p:grpSpPr>
          <a:xfrm>
            <a:off x="3760920" y="3017880"/>
            <a:ext cx="1500120" cy="736560"/>
            <a:chOff x="3760920" y="3017880"/>
            <a:chExt cx="1500120" cy="736560"/>
          </a:xfrm>
        </p:grpSpPr>
        <p:pic>
          <p:nvPicPr>
            <p:cNvPr id="117" name="Round Diagonal Corner Rectangle 6" descr=""/>
            <p:cNvPicPr/>
            <p:nvPr/>
          </p:nvPicPr>
          <p:blipFill>
            <a:blip r:embed="rId6"/>
            <a:stretch/>
          </p:blipFill>
          <p:spPr>
            <a:xfrm>
              <a:off x="3760920" y="3017880"/>
              <a:ext cx="15001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25720" y="3081240"/>
              <a:ext cx="13795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ound Diagonal Corner Rectangle 7"/>
          <p:cNvGrpSpPr/>
          <p:nvPr/>
        </p:nvGrpSpPr>
        <p:grpSpPr>
          <a:xfrm>
            <a:off x="5699160" y="3017880"/>
            <a:ext cx="1549440" cy="736560"/>
            <a:chOff x="5699160" y="3017880"/>
            <a:chExt cx="1549440" cy="736560"/>
          </a:xfrm>
        </p:grpSpPr>
        <p:pic>
          <p:nvPicPr>
            <p:cNvPr id="120" name="Round Diagonal Corner Rectangle 7" descr=""/>
            <p:cNvPicPr/>
            <p:nvPr/>
          </p:nvPicPr>
          <p:blipFill>
            <a:blip r:embed="rId7"/>
            <a:stretch/>
          </p:blipFill>
          <p:spPr>
            <a:xfrm>
              <a:off x="5699160" y="3017880"/>
              <a:ext cx="15494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62520" y="3081240"/>
              <a:ext cx="14288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Outco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Striped Right Arrow 8"/>
          <p:cNvGrpSpPr/>
          <p:nvPr/>
        </p:nvGrpSpPr>
        <p:grpSpPr>
          <a:xfrm>
            <a:off x="506520" y="3846600"/>
            <a:ext cx="1272960" cy="609480"/>
            <a:chOff x="506520" y="3846600"/>
            <a:chExt cx="1272960" cy="609480"/>
          </a:xfrm>
        </p:grpSpPr>
        <p:pic>
          <p:nvPicPr>
            <p:cNvPr id="123" name="Striped Right Arrow 8" descr=""/>
            <p:cNvPicPr/>
            <p:nvPr/>
          </p:nvPicPr>
          <p:blipFill>
            <a:blip r:embed="rId8"/>
            <a:stretch/>
          </p:blipFill>
          <p:spPr>
            <a:xfrm>
              <a:off x="506520" y="3846600"/>
              <a:ext cx="127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17400" y="4019400"/>
              <a:ext cx="1001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Striped Right Arrow 9"/>
          <p:cNvGrpSpPr/>
          <p:nvPr/>
        </p:nvGrpSpPr>
        <p:grpSpPr>
          <a:xfrm>
            <a:off x="2189160" y="3846600"/>
            <a:ext cx="1273320" cy="609480"/>
            <a:chOff x="2189160" y="3846600"/>
            <a:chExt cx="1273320" cy="609480"/>
          </a:xfrm>
        </p:grpSpPr>
        <p:pic>
          <p:nvPicPr>
            <p:cNvPr id="126" name="Striped Right Arrow 9" descr=""/>
            <p:cNvPicPr/>
            <p:nvPr/>
          </p:nvPicPr>
          <p:blipFill>
            <a:blip r:embed="rId9"/>
            <a:stretch/>
          </p:blipFill>
          <p:spPr>
            <a:xfrm>
              <a:off x="2189160" y="3846600"/>
              <a:ext cx="1273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300400" y="401940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Striped Right Arrow 10"/>
          <p:cNvGrpSpPr/>
          <p:nvPr/>
        </p:nvGrpSpPr>
        <p:grpSpPr>
          <a:xfrm>
            <a:off x="3919680" y="3846600"/>
            <a:ext cx="1274760" cy="609480"/>
            <a:chOff x="3919680" y="3846600"/>
            <a:chExt cx="1274760" cy="609480"/>
          </a:xfrm>
        </p:grpSpPr>
        <p:pic>
          <p:nvPicPr>
            <p:cNvPr id="129" name="Striped Right Arrow 10" descr=""/>
            <p:cNvPicPr/>
            <p:nvPr/>
          </p:nvPicPr>
          <p:blipFill>
            <a:blip r:embed="rId10"/>
            <a:stretch/>
          </p:blipFill>
          <p:spPr>
            <a:xfrm>
              <a:off x="3919680" y="3846600"/>
              <a:ext cx="1274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030560" y="401940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Striped Right Arrow 11"/>
          <p:cNvGrpSpPr/>
          <p:nvPr/>
        </p:nvGrpSpPr>
        <p:grpSpPr>
          <a:xfrm>
            <a:off x="5870520" y="3846600"/>
            <a:ext cx="1268640" cy="609480"/>
            <a:chOff x="5870520" y="3846600"/>
            <a:chExt cx="1268640" cy="609480"/>
          </a:xfrm>
        </p:grpSpPr>
        <p:pic>
          <p:nvPicPr>
            <p:cNvPr id="132" name="Striped Right Arrow 11" descr=""/>
            <p:cNvPicPr/>
            <p:nvPr/>
          </p:nvPicPr>
          <p:blipFill>
            <a:blip r:embed="rId11"/>
            <a:stretch/>
          </p:blipFill>
          <p:spPr>
            <a:xfrm>
              <a:off x="5870520" y="3846600"/>
              <a:ext cx="1268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79960" y="4019400"/>
              <a:ext cx="1001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Bent Arrow 16"/>
          <p:cNvGrpSpPr/>
          <p:nvPr/>
        </p:nvGrpSpPr>
        <p:grpSpPr>
          <a:xfrm>
            <a:off x="646200" y="1878120"/>
            <a:ext cx="3889440" cy="1346040"/>
            <a:chOff x="646200" y="1878120"/>
            <a:chExt cx="3889440" cy="1346040"/>
          </a:xfrm>
        </p:grpSpPr>
        <p:pic>
          <p:nvPicPr>
            <p:cNvPr id="135" name="Bent Arrow 16" descr=""/>
            <p:cNvPicPr/>
            <p:nvPr/>
          </p:nvPicPr>
          <p:blipFill>
            <a:blip r:embed="rId12"/>
            <a:stretch/>
          </p:blipFill>
          <p:spPr>
            <a:xfrm>
              <a:off x="646200" y="1878120"/>
              <a:ext cx="3889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6200000">
              <a:off x="1952640" y="638280"/>
              <a:ext cx="1295280" cy="38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Box 17"/>
          <p:cNvSpPr/>
          <p:nvPr/>
        </p:nvSpPr>
        <p:spPr>
          <a:xfrm>
            <a:off x="533520" y="54579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Adaptive System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uts become inputs in an iterative nonlinear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Round Diagonal Corner Rectangle 13"/>
          <p:cNvGrpSpPr/>
          <p:nvPr/>
        </p:nvGrpSpPr>
        <p:grpSpPr>
          <a:xfrm>
            <a:off x="7486560" y="3048120"/>
            <a:ext cx="1541520" cy="731880"/>
            <a:chOff x="7486560" y="3048120"/>
            <a:chExt cx="1541520" cy="731880"/>
          </a:xfrm>
        </p:grpSpPr>
        <p:pic>
          <p:nvPicPr>
            <p:cNvPr id="139" name="Round Diagonal Corner Rectangle 13" descr=""/>
            <p:cNvPicPr/>
            <p:nvPr/>
          </p:nvPicPr>
          <p:blipFill>
            <a:blip r:embed="rId13"/>
            <a:stretch/>
          </p:blipFill>
          <p:spPr>
            <a:xfrm>
              <a:off x="7486560" y="3048120"/>
              <a:ext cx="15415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45240" y="3106800"/>
              <a:ext cx="14274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Arial"/>
                </a:rPr>
                <a:t>Impa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Striped Right Arrow 14"/>
          <p:cNvGrpSpPr/>
          <p:nvPr/>
        </p:nvGrpSpPr>
        <p:grpSpPr>
          <a:xfrm>
            <a:off x="7656480" y="3870360"/>
            <a:ext cx="1268280" cy="609480"/>
            <a:chOff x="7656480" y="3870360"/>
            <a:chExt cx="1268280" cy="609480"/>
          </a:xfrm>
        </p:grpSpPr>
        <p:pic>
          <p:nvPicPr>
            <p:cNvPr id="142" name="Striped Right Arrow 14" descr=""/>
            <p:cNvPicPr/>
            <p:nvPr/>
          </p:nvPicPr>
          <p:blipFill>
            <a:blip r:embed="rId14"/>
            <a:stretch/>
          </p:blipFill>
          <p:spPr>
            <a:xfrm>
              <a:off x="7656480" y="3870360"/>
              <a:ext cx="1268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764480" y="4044960"/>
              <a:ext cx="10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TextBox 2"/>
          <p:cNvSpPr/>
          <p:nvPr/>
        </p:nvSpPr>
        <p:spPr>
          <a:xfrm>
            <a:off x="942480" y="46036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Did we do what we planned to 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6110280" y="460368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Hypotheses are te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349"/>
            </a:gs>
            <a:gs pos="100000">
              <a:srgbClr val="4b4f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2280" y="20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ccbf9"/>
                </a:solidFill>
                <a:latin typeface="Arial"/>
              </a:rPr>
              <a:t>Traditional  Approaches</a:t>
            </a:r>
            <a:endParaRPr b="0" lang="en-US" sz="38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114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– Cau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can be understood throug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ey compon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explain chan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Arial Narro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past event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diction of futur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ccb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6:29:28Z</dcterms:created>
  <dc:creator>Ann Doucette</dc:creator>
  <dc:description/>
  <dc:language>en-US</dc:language>
  <cp:lastModifiedBy>Erin Robinson</cp:lastModifiedBy>
  <cp:lastPrinted>2011-01-04T03:11:11Z</cp:lastPrinted>
  <dcterms:modified xsi:type="dcterms:W3CDTF">2011-01-04T18:48:06Z</dcterms:modified>
  <cp:revision>48</cp:revision>
  <dc:subject/>
  <dc:title>From Insight to Impact</dc:title>
</cp:coreProperties>
</file>